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3238-915A-47C2-8E4E-2B55E6B8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55E3-B09A-482D-8ECD-E6600ACD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EEFD-53EF-4819-8164-35224B013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0F4E-61D8-40C3-AA5E-2BC7614B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296E-6C87-4746-8C14-514E9F70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8D5B-F006-4C89-AFD8-90A7F8DD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883B-6C3B-4F01-B238-D2CA1B72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A801-D9EC-447E-9EBD-AB238A16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4AF7-350D-4F58-90A6-44DFE684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F238-C7F6-4A45-A361-2714135A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B09B-225A-40E1-871A-E0EE22F6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6B21-F510-492B-B847-D3D6F20D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AABC-DFD4-4EB7-934D-30B4E4769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Arial"/>
              </a:rPr>
              <a:t>301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 Ke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ď svit slnka stráca j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-306000"/>
            <a:ext cx="112680" cy="12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181080" y="549000"/>
            <a:ext cx="950616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Keď svit slnka stráca jas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večerný sa blíži čas,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duch sa k Bohu povzniesť smie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nad pozemské trápenie 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v deň sobotný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133200" cy="1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Vznešený a svätý Stvoriteľu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nebesá nám zvestujú tvoju slávu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hlásajú moc preveľkú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Tvorca náš, čo stvoril svet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neprestáva strážne bdieť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práci mieru určil sám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odpočinok praje nám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v deň sobotn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Vznešený a svätý Stvoriteľu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nebesá nám zvestujú tvoju slávu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hlásajú moc preveľkú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7360" y="-53002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K zvesti Slova pravdy ná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Víta Božej lásky hl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Slovo spásy radost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Smieme počuť z milost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V deň sobotn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Vznešený a svätý Stvoriteľu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nebesá nám zvestujú tvoju slávu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hlásajú moc preveľkú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Hriechu noc pomini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s ňou aj všetko súženi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zanikne raz smrti tie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svitne  slávy večný de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deň sobotn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Vznešený a svätý Stvoriteľu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nebesá nám zvestujú tvoju slávu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hlásajú moc preveľk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_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16:56:09Z</dcterms:created>
  <dc:creator>Stano Slamka</dc:creator>
  <dc:description/>
  <dc:language>en-US</dc:language>
  <cp:lastModifiedBy>Stano Slamka</cp:lastModifiedBy>
  <dcterms:modified xsi:type="dcterms:W3CDTF">2006-11-23T16:57:09Z</dcterms:modified>
  <cp:revision>1</cp:revision>
  <dc:subject/>
  <dc:title>301  Keď svit slnka stráca jas</dc:title>
</cp:coreProperties>
</file>